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669-96BA-4DFA-8EF0-7217E149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8B1-B493-4BBB-85B5-C91F78BB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A9F-6320-42E6-BFB6-BDAD3640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161-A6A9-4BAD-9F4F-970752CE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4A5F-109A-4ABA-9897-3D36CEA8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EEC-BA44-4942-8AB0-A9FE0BC5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F8A-35AD-493C-BFEA-035E2460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6BB-68EE-4CA1-94DB-C7612224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56B-CF9E-4277-9BB4-53C3977D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8FA0-37C0-4DF6-B6E4-C93B7050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911-22D2-4BFB-AF46-2D99DC5B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3B4-FB6A-4F55-8D15-EF2BD422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C8A2-3C31-4035-80D3-3161F02CB2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3960" y="208548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можем ли м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жить без импортных продуктов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ие продук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ятся именно в Кировской област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сколько популяр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х продукция среди покупателе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5" descr="i (1).jpg"/>
          <p:cNvPicPr/>
          <p:nvPr/>
        </p:nvPicPr>
        <p:blipFill>
          <a:blip r:embed="rId1"/>
          <a:stretch/>
        </p:blipFill>
        <p:spPr>
          <a:xfrm>
            <a:off x="1042920" y="4156200"/>
            <a:ext cx="3313080" cy="23209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"/>
          <p:cNvPicPr/>
          <p:nvPr/>
        </p:nvPicPr>
        <p:blipFill>
          <a:blip r:embed="rId2"/>
          <a:stretch/>
        </p:blipFill>
        <p:spPr>
          <a:xfrm>
            <a:off x="4716360" y="4116240"/>
            <a:ext cx="3834000" cy="23893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3092400" y="13780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684360" y="572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c0000"/>
                </a:solidFill>
                <a:latin typeface="Arial"/>
                <a:ea typeface="Arial"/>
              </a:rPr>
              <a:t>Фрагмент проектной работы на тему «Экономика родного кра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3520" y="956880"/>
            <a:ext cx="822960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зо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газинов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ссортимен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иск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интернет-источни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еседа с продавцам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дуктовых магазин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1066680" y="1890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Пути решения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адпись 12"/>
          <p:cNvSpPr/>
          <p:nvPr/>
        </p:nvSpPr>
        <p:spPr>
          <a:xfrm>
            <a:off x="4932360" y="3373560"/>
            <a:ext cx="3611520" cy="255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Толян\Dropbox\Скриншоты\Скриншот 2015-02-22 20.33.12.png"/>
          <p:cNvPicPr/>
          <p:nvPr/>
        </p:nvPicPr>
        <p:blipFill>
          <a:blip r:embed="rId2"/>
          <a:stretch/>
        </p:blipFill>
        <p:spPr>
          <a:xfrm>
            <a:off x="568440" y="3373560"/>
            <a:ext cx="4244760" cy="25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8472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Производство молочной проду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653680" cy="5740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7524720" y="1484280"/>
            <a:ext cx="1150920" cy="216000"/>
          </a:xfrm>
          <a:prstGeom prst="rect">
            <a:avLst/>
          </a:pr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2"/>
          <a:stretch/>
        </p:blipFill>
        <p:spPr>
          <a:xfrm>
            <a:off x="7389720" y="1450800"/>
            <a:ext cx="854280" cy="792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4"/>
          <p:cNvSpPr/>
          <p:nvPr/>
        </p:nvSpPr>
        <p:spPr>
          <a:xfrm>
            <a:off x="8269200" y="1430280"/>
            <a:ext cx="479520" cy="703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24000" y="-100080"/>
            <a:ext cx="1008072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оизводство хлебобулочной и кондитерской проду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3320" y="476280"/>
          <a:ext cx="8856360" cy="6278400"/>
        </p:xfrm>
        <a:graphic>
          <a:graphicData uri="http://schemas.openxmlformats.org/drawingml/2006/table">
            <a:tbl>
              <a:tblPr/>
              <a:tblGrid>
                <a:gridCol w="1800000"/>
                <a:gridCol w="1152720"/>
                <a:gridCol w="2950920"/>
                <a:gridCol w="1297080"/>
                <a:gridCol w="1655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ынки сб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орговый 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ово-Чепецкий хлебокомб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2 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, круассаны,  штруделя, рулеты, полуфабрикаты из слоеного те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овская область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удохлеб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осолаыч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ладкая Слобода»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и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овская область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аба Маня», «На деревенском молок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улочно-кондитерский комбинат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вовят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, сухари, сушки, пряни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овская область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ветская кондитерская фабри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, кондитерские изделия, какао, шокол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ов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акаронно-кондитерский комбинат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лободско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ароны, вермишель, лапша, печенье, слад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овская область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ят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" name="Text Box 89"/>
          <p:cNvSpPr/>
          <p:nvPr/>
        </p:nvSpPr>
        <p:spPr>
          <a:xfrm>
            <a:off x="7308720" y="1197000"/>
            <a:ext cx="792360" cy="93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2"/>
          <a:stretch/>
        </p:blipFill>
        <p:spPr>
          <a:xfrm>
            <a:off x="8101080" y="1197000"/>
            <a:ext cx="85860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Колбасные изделия. Мясные полуфабрика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620640"/>
          <a:ext cx="8497800" cy="6126120"/>
        </p:xfrm>
        <a:graphic>
          <a:graphicData uri="http://schemas.openxmlformats.org/drawingml/2006/table">
            <a:tbl>
              <a:tblPr/>
              <a:tblGrid>
                <a:gridCol w="1992240"/>
                <a:gridCol w="1355760"/>
                <a:gridCol w="2574720"/>
                <a:gridCol w="25750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звание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од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д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ынки сб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грофирма «Дороничи»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Ки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басные изделия, мясные полуфабрик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ировская область, регионы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Абсолю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Кирово-Чепец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басные изде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Киров, респ.Коми и Удмуртия, 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ветский мясокомб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тчина, колбаса, пельмен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рода Кировской об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стинская и Зуевская птицефабр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ясо птицы, яй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ободской мясокомб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басные и мясные изде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9280" y="288720"/>
            <a:ext cx="850752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Производственный холдинг «Здра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Принто-АГР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грокомбинат «Красногорск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М «Засолыч», ИП Шихов Н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Омутнинское рыбное хозяйств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1576440" y="1973160"/>
            <a:ext cx="1968480" cy="7365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"/>
          <p:cNvPicPr/>
          <p:nvPr/>
        </p:nvPicPr>
        <p:blipFill>
          <a:blip r:embed="rId2"/>
          <a:stretch/>
        </p:blipFill>
        <p:spPr>
          <a:xfrm>
            <a:off x="2268360" y="4421160"/>
            <a:ext cx="1656000" cy="1473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"/>
          <p:cNvPicPr/>
          <p:nvPr/>
        </p:nvPicPr>
        <p:blipFill>
          <a:blip r:embed="rId3"/>
          <a:stretch/>
        </p:blipFill>
        <p:spPr>
          <a:xfrm>
            <a:off x="6180120" y="2786040"/>
            <a:ext cx="2063880" cy="1312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"/>
          <p:cNvPicPr/>
          <p:nvPr/>
        </p:nvPicPr>
        <p:blipFill>
          <a:blip r:embed="rId4"/>
          <a:stretch/>
        </p:blipFill>
        <p:spPr>
          <a:xfrm>
            <a:off x="4932360" y="936720"/>
            <a:ext cx="2303640" cy="1404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"/>
          <p:cNvPicPr/>
          <p:nvPr/>
        </p:nvPicPr>
        <p:blipFill>
          <a:blip r:embed="rId5"/>
          <a:stretch/>
        </p:blipFill>
        <p:spPr>
          <a:xfrm>
            <a:off x="6103800" y="4421160"/>
            <a:ext cx="2140200" cy="16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Кировской области более 400 предприятий, которые производят и перерабатывают продук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4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2472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95280" y="333360"/>
            <a:ext cx="8137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c0000"/>
                </a:solidFill>
                <a:latin typeface="Arial"/>
                <a:ea typeface="Arial"/>
              </a:rPr>
              <a:t>У вятских продукт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c0000"/>
                </a:solidFill>
                <a:latin typeface="Arial"/>
                <a:ea typeface="Arial"/>
              </a:rPr>
              <a:t>есть будуще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3241800" y="2403360"/>
            <a:ext cx="3025800" cy="21718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3009960" y="4703760"/>
            <a:ext cx="2990880" cy="1901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"/>
          <p:cNvPicPr/>
          <p:nvPr/>
        </p:nvPicPr>
        <p:blipFill>
          <a:blip r:embed="rId3"/>
          <a:stretch/>
        </p:blipFill>
        <p:spPr>
          <a:xfrm>
            <a:off x="201600" y="1197000"/>
            <a:ext cx="2182680" cy="1687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"/>
          <p:cNvPicPr/>
          <p:nvPr/>
        </p:nvPicPr>
        <p:blipFill>
          <a:blip r:embed="rId4"/>
          <a:stretch/>
        </p:blipFill>
        <p:spPr>
          <a:xfrm>
            <a:off x="6411960" y="2338560"/>
            <a:ext cx="2387520" cy="23875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"/>
          <p:cNvPicPr/>
          <p:nvPr/>
        </p:nvPicPr>
        <p:blipFill>
          <a:blip r:embed="rId5"/>
          <a:stretch/>
        </p:blipFill>
        <p:spPr>
          <a:xfrm>
            <a:off x="7380360" y="233280"/>
            <a:ext cx="161928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"/>
          <p:cNvPicPr/>
          <p:nvPr/>
        </p:nvPicPr>
        <p:blipFill>
          <a:blip r:embed="rId6"/>
          <a:stretch/>
        </p:blipFill>
        <p:spPr>
          <a:xfrm>
            <a:off x="108000" y="4732200"/>
            <a:ext cx="2820960" cy="1881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"/>
          <p:cNvPicPr/>
          <p:nvPr/>
        </p:nvPicPr>
        <p:blipFill>
          <a:blip r:embed="rId7"/>
          <a:stretch/>
        </p:blipFill>
        <p:spPr>
          <a:xfrm>
            <a:off x="109440" y="2997360"/>
            <a:ext cx="2989440" cy="1593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"/>
          <p:cNvPicPr/>
          <p:nvPr/>
        </p:nvPicPr>
        <p:blipFill>
          <a:blip r:embed="rId8"/>
          <a:stretch/>
        </p:blipFill>
        <p:spPr>
          <a:xfrm>
            <a:off x="6080040" y="4803840"/>
            <a:ext cx="2719440" cy="173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9T10:10:19Z</dcterms:created>
  <dc:creator>Толян</dc:creator>
  <dc:description/>
  <dc:language>en-US</dc:language>
  <cp:lastModifiedBy>ЕЛЕНА</cp:lastModifiedBy>
  <dcterms:modified xsi:type="dcterms:W3CDTF">2025-09-10T17:36:43Z</dcterms:modified>
  <cp:revision>165</cp:revision>
  <dc:subject/>
  <dc:title>Экономика родного края</dc:title>
</cp:coreProperties>
</file>